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3812147"/>
        <c:axId val="23801636"/>
      </c:barChart>
      <c:catAx>
        <c:axId val="1381214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3801636"/>
        <c:crosses val="autoZero"/>
        <c:auto val="1"/>
        <c:lblAlgn val="ctr"/>
        <c:lblOffset val="100"/>
        <c:noMultiLvlLbl val="0"/>
      </c:catAx>
      <c:valAx>
        <c:axId val="23801636"/>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381214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D68D3-FD88-42ED-A231-E68FA06B3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774F9-6854-4E1D-8B51-193B1BA34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954D5-792A-4A6D-AA14-F5811AFC1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2CA72-E734-40C2-933C-E9A0A1D59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839D0-08BD-4EB9-AD34-8E87C60D8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6E625-AE96-412D-9082-C3D74AB40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F2FBA-7294-4976-A695-0F90212A2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56ED6-7A20-479C-8789-2449A5102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489D4-1798-4434-BC67-62218D201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B3027-CEDE-43FF-9C34-361EEEDE9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22A33-57A9-4426-B6F8-1B23EB1DD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BA87-9ECA-431E-91EC-D607D3622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72D26-47F9-4CCB-AC1E-933D7E122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2EEF3-C87D-42EC-9706-AF744C416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7A42E-03AA-4A14-84A7-CDE7E4261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2A091-C779-4587-8A98-7B66C56BF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1184B-E25E-4ACD-971F-6B4C5B2EF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47A66-A686-4374-AB75-B18BC176A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59AF5-AC6A-49C4-BFDC-33E949ED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7CFF9-81DA-46E6-98FD-5340BEF6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908DD-5E1D-4FA3-863D-B3ADFEA8E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02811-10DB-4848-9425-8B816C838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57C7E-72EF-4117-9A2E-E9906F497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1BD41-820A-449F-9724-EA2054B14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2B2722-215C-4078-9AC6-BD1404EB2EC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C89AC9-04C8-4B84-B72C-34D24CCB48F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